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DA7-5DE8-42B3-8EA7-55F8B042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02A-752C-409E-A099-ED5FAD15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EE1-5D8F-49D5-91F9-3F83ED84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4A0-52FE-4825-B5D2-6416FEB2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216-08C5-4250-B299-C6B85937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559-FA26-43F8-811A-D8477A7F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6DE-EF87-4389-A1A6-C921F8C7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DBD-19DF-4D6E-8FD4-FF8007D6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118-75EA-4A56-B7B6-92004B41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472-890A-411D-8D22-93741F4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6E6-7029-45FE-96D7-FAE20643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88A-A2E9-4C33-9BB9-3BF95BD4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67CA-B599-4699-AA81-1793709F2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Players from 1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to 15C W.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 Catholic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sals and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ers- Burg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y of Av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819240" cy="4429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552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574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Catholic Division- Great Sc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751280" cy="7010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19920" y="3276720"/>
            <a:ext cx="2238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37- 100 YEAR War Star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eally 116 yea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King dies without an Heir (SON or DAUGHTER)- English King claims to be closest relative Demands Throne! War St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Lasts 116 years (not continu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s- Effects of new Weapo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Bow -&gt; end of the Knight- Piercing ar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s threatened- Cannons break through Castle Walls- Look to King for Help- King becomes more powerful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Warfare??? Large Armies with Big Weapons require Big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160" y="5943600"/>
            <a:ext cx="93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les Lose Power- King Gains Power, Local Government Loses, Nation-State w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ally Big Ca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0464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ven Bigger Cannon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6867360" cy="5153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83480" y="3465360"/>
            <a:ext cx="143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s w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b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800520" cy="5153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54680" y="2932200"/>
            <a:ext cx="312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le of Agincourt 1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ights refused to b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bows.. Longbows w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y of the Knight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yr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SSUES WITH TH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object to Tithes (10%) paid to a Pope in France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 of Arc sparks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15c -&gt; French Heroine, leads France to victory but later executed as a Here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yrs later-&gt; Church beatifies 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Exhausted, France Un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in Italy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 City-States Pros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States- Venice becomes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for goods from the East following crusaders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ice- First Banks formed (from Benches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ity States- Pisa, Florence, Milan, Rome -&gt; compete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UNITY-&gt;Italy will not have a true King for 600 years not a Nation- State until 1861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720" y="5943600"/>
            <a:ext cx="885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State- Gain Power- Nation loses 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7239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C Venetian style b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4343400" cy="314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02760" y="483696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etian Book 15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77-1492- Spain Reconquers and Unif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atulations Isabella and Ferdinand on your Marriag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bella of Aragon and Ferdinand of Castille marry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tille and Aragon two largest provinces in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ion of the two provinces help Unify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92 order Jews and Muslims out of Spain- Inquisition against con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quista (reconquering of Spain by Christianity) final w/removal of Moors from Gr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 becomes Powerhouse- Invests money in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5791320"/>
            <a:ext cx="885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urch gains power- Nation gains power- Jews and Muslims Loses 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66 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of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7432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9680" y="327672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DEFEATS HAR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r today, William of Normandy defeated Harold for the th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England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am consolidated power by ridding the country of the old L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Vassals and putting his own people in Charge- Most are from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nch Connection will lead to 100s of yea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56272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60" y="6491160"/>
            <a:ext cx="73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wer of London-  www.myphotographs.net/england/image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048120" cy="4286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495680" cy="2992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45720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ained, Who 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man Catholic Church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rch no longer fighting w/E. Orthodox, able to pass new ru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- lay investiture, marriage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ommunication and interdict effectively used against Heretics- See In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hts w/Kings- Germany and France- early gains, later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’s in Charge the Political Leader or the Spiritual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ignon Papacy hurts church, divides loy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and early gains (William) later losses (John) then gains again (Edward I –Parlia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 starts out weak- Gains Power when Nobles need King to fight large scale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ained, who lost Part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s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- Stay weak- No Unified leader, Nobles Elect King- Keep King weak, No major outside threat, unlike France where England was a constant wo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- Stays w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ty-States Deve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Gains- Magna Carta- Only major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n put Nobles at risk- Need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ained, who lost Part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1066- William Unifies Power, Local Government loses Power, Nation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Mid-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Joan of Arc and threat of England cause France to develop a unified Spir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- Late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Isabella and Ferdinand Unify Spain, Reconquer last Islamic Ar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gained, who lost Part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in England- Gain Political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otiate Charters w/L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increase due to Agriculture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Power during Black Plague- demand for labor increases, Serfs now in a better position to negotiat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erfs manage to leave Manor- 1 year, 1 day- Freedom rule becomes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erfs remain poor, live in Manors, look forward to the “Everlasting Lif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480060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3505320" cy="331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riage and War creates strange bedfellows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3580920"/>
            <a:ext cx="40384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9360" cy="4952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67120" y="228600"/>
            <a:ext cx="527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15- Magna C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swor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3467160" cy="5153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5638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$2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95 – England- Towns get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Edward I fights with Lords pulls in Townspeople (Burghers) as ally to defeat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Edward I Creates 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 of Lords- No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 of Co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owns represented in Parliament- Towns begin to Develop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 revolution- Harnesses, Plows and Crop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BOOM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fs escape 1 yr 1day from Manor Gain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1400" y="5867280"/>
            <a:ext cx="885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g and Burghers gain Power- Nobles 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03 CE- French King tries to Kidnap Pope!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e and French King Argue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ht over lay investiture (Kings trying to appoint Church Offici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King kidnaps Pope releases him but then soon after Pope d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ans blame French King for Popes’ early de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20" y="5486400"/>
            <a:ext cx="885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urch  wins Power- King lo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05 CE- Great Schism star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pe in 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Cardinals get French Pope 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acy moves to France (Avignon) after French Pope threatened in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s Great Schism (also known as the Babylonian Cap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e in Avignon lives in Posh Style- some become up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77-1412- Two Popes at a Time- One in Rome, One in Avig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12-1415- Three POPES!!! Rome, Avignon and Si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ure Christians question their faith- New Ideas formulat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is a Zero-Sum Game- any time one entity gains power another must los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ng gains power- Church los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248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22:21Z</dcterms:created>
  <dc:creator>Darien Public Schools</dc:creator>
  <dc:description/>
  <dc:language>en-US</dc:language>
  <cp:lastModifiedBy>Darien Public Schools</cp:lastModifiedBy>
  <dcterms:modified xsi:type="dcterms:W3CDTF">2008-12-18T12:22:36Z</dcterms:modified>
  <cp:revision>14</cp:revision>
  <dc:subject/>
  <dc:title>1054</dc:title>
</cp:coreProperties>
</file>